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7B6E-351C-47C9-9082-A7B8E4CFEE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07DB-94EA-434F-83D1-4232941695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4.03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6760" y="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roject &lt;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640" y="648648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68720" y="5045040"/>
            <a:ext cx="4876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872000" y="136584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2133360" y="12063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133360" y="14191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133360" y="16318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10664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138040" y="141588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63840" y="1147680"/>
            <a:ext cx="6238440" cy="1093680"/>
            <a:chOff x="2463840" y="1147680"/>
            <a:chExt cx="6238440" cy="1093680"/>
          </a:xfrm>
        </p:grpSpPr>
        <p:sp>
          <p:nvSpPr>
            <p:cNvPr id="104" name=""/>
            <p:cNvSpPr/>
            <p:nvPr/>
          </p:nvSpPr>
          <p:spPr>
            <a:xfrm>
              <a:off x="2463840" y="1147680"/>
              <a:ext cx="6238440" cy="10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0280" y="1147680"/>
              <a:ext cx="61736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B1 run in pl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Problems in SW-release planning only partly solv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BOM increased due to 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Budget: slightly increased versus M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R: Budget exceeded, 10 new pending CRs (see backup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SW bug fixing rate too 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rot="5400000">
            <a:off x="1867320" y="25707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128680" y="2411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128680" y="26240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128680" y="2836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960" y="23115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133360" y="262080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59160" y="2352600"/>
            <a:ext cx="6238440" cy="703080"/>
            <a:chOff x="2459160" y="2352600"/>
            <a:chExt cx="6238440" cy="703080"/>
          </a:xfrm>
        </p:grpSpPr>
        <p:sp>
          <p:nvSpPr>
            <p:cNvPr id="113" name=""/>
            <p:cNvSpPr/>
            <p:nvPr/>
          </p:nvSpPr>
          <p:spPr>
            <a:xfrm>
              <a:off x="2459160" y="2352600"/>
              <a:ext cx="6238440" cy="70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05600" y="2352600"/>
              <a:ext cx="6173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next MS: S25 on April 15th – not critica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DS on 30th June. - critical due to SW qual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Quantity target for DS and critic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rot="5400000">
            <a:off x="1867320" y="338040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2128680" y="3220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128680" y="34336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2128680" y="36464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" y="31212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2133360" y="343044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59160" y="3162240"/>
            <a:ext cx="6238440" cy="703080"/>
            <a:chOff x="2459160" y="3162240"/>
            <a:chExt cx="6238440" cy="703080"/>
          </a:xfrm>
        </p:grpSpPr>
        <p:sp>
          <p:nvSpPr>
            <p:cNvPr id="122" name=""/>
            <p:cNvSpPr/>
            <p:nvPr/>
          </p:nvSpPr>
          <p:spPr>
            <a:xfrm>
              <a:off x="2459160" y="3162240"/>
              <a:ext cx="6238440" cy="70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5600" y="3162240"/>
              <a:ext cx="6173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Last update PV last wee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Partly significant overload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, 2 areas identified to be reviewed through line management (see backup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5400000">
            <a:off x="1872000" y="41853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33360" y="40258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133360" y="42386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133360" y="445140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39258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138040" y="42354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63840" y="3967200"/>
            <a:ext cx="6238440" cy="702720"/>
            <a:chOff x="2463840" y="3967200"/>
            <a:chExt cx="6238440" cy="702720"/>
          </a:xfrm>
        </p:grpSpPr>
        <p:sp>
          <p:nvSpPr>
            <p:cNvPr id="131" name=""/>
            <p:cNvSpPr/>
            <p:nvPr/>
          </p:nvSpPr>
          <p:spPr>
            <a:xfrm>
              <a:off x="2463840" y="3967200"/>
              <a:ext cx="6238440" cy="70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0280" y="3967200"/>
              <a:ext cx="617364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SW Quality not sufficient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, significant improvements have to be reach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Mechanical qualification critíc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rot="5400000">
            <a:off x="1867320" y="5009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128680" y="48495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2128680" y="5062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128680" y="5275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" y="474984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2133360" y="5059440"/>
            <a:ext cx="12888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459160" y="4791240"/>
            <a:ext cx="6238440" cy="1121760"/>
            <a:chOff x="2459160" y="4791240"/>
            <a:chExt cx="6238440" cy="1121760"/>
          </a:xfrm>
        </p:grpSpPr>
        <p:sp>
          <p:nvSpPr>
            <p:cNvPr id="140" name=""/>
            <p:cNvSpPr/>
            <p:nvPr/>
          </p:nvSpPr>
          <p:spPr>
            <a:xfrm>
              <a:off x="2459160" y="4791240"/>
              <a:ext cx="6238440" cy="112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5600" y="4791240"/>
              <a:ext cx="617364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SW very critical, Team member partly not availab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HW o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ST critical due to S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Mechanics: critic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+ QM no blocking po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SD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o blocking po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32360" y="6024600"/>
            <a:ext cx="3745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nagement Support necessary:  yes /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chmitz Juergen</cp:lastModifiedBy>
  <cp:lastPrinted>2004-02-29T14:41:19Z</cp:lastPrinted>
  <dcterms:modified xsi:type="dcterms:W3CDTF">2005-03-03T16:57:40Z</dcterms:modified>
  <cp:revision>704</cp:revision>
  <dc:subject/>
  <dc:title>PowerPoint Presentation</dc:title>
</cp:coreProperties>
</file>